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32F-2C72-458D-BABB-EFF0B877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E8B-954B-473C-8B75-60C1D390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B50-2257-4AA7-98FB-EB9F9DDC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A3E-7F8E-4D5F-B939-CFD5DBE3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D16-D86F-4CF9-AB48-32778121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595-A298-4F3F-9A87-1123F3B7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285E-19BC-4E71-A1A7-E1ACFE1B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287-39A5-48F7-A04E-C5ABE6DF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9EE-6C8F-427E-A9F6-C722F84A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638-02E2-4B01-8586-9373E0C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A71-B0E0-4C9B-9F67-CD5D35B0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D46-1EEC-4647-A780-5515D29E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C5F0-8E3E-430C-B2D1-A8069E38247B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ilhelm_Ackermann" TargetMode="External"/><Relationship Id="rId2" Type="http://schemas.openxmlformats.org/officeDocument/2006/relationships/hyperlink" Target="http://en.wikipedia.org/wiki/Wilhelm_Ackermann" TargetMode="External"/><Relationship Id="rId3" Type="http://schemas.openxmlformats.org/officeDocument/2006/relationships/hyperlink" Target="http://en.wikipedia.org/wiki/Wilhelm_Ackermann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ilhelm_Ackermann" TargetMode="External"/><Relationship Id="rId2" Type="http://schemas.openxmlformats.org/officeDocument/2006/relationships/hyperlink" Target="http://en.wikipedia.org/wiki/Wilhelm_Ackermann" TargetMode="External"/><Relationship Id="rId3" Type="http://schemas.openxmlformats.org/officeDocument/2006/relationships/hyperlink" Target="http://en.wikipedia.org/wiki/Wilhelm_Ackermann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ilhelm_Ackermann" TargetMode="External"/><Relationship Id="rId2" Type="http://schemas.openxmlformats.org/officeDocument/2006/relationships/hyperlink" Target="http://en.wikipedia.org/wiki/Wilhelm_Ackermann" TargetMode="External"/><Relationship Id="rId3" Type="http://schemas.openxmlformats.org/officeDocument/2006/relationships/hyperlink" Target="http://en.wikipedia.org/wiki/Wilhelm_Ackermann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LOGICA PREDICATIVĂ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Sistem formal.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Demonstraţie. Deducţie.</a:t>
            </a:r>
            <a:br>
              <a:rPr sz="3600"/>
            </a:b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... the question of whether Machines Can Think ... is about as relevant as the question of whether Submarines Can Swim.”  </a:t>
            </a:r>
            <a:br>
              <a:rPr sz="2000"/>
            </a:b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Edsger Wybe Dijk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CA COMPUTA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ONAL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INFORMATICĂ a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rs 8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 Cur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adevărată în interpretarea 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este adevărată în orice evaluare în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.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╞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falsă în interpretarea 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este falsă în orice evaluare în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istă fbf şi interpretări în care, pentru unele evaluări, fbf este adevărată şi pentru alte evaluări, fbf este falsă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ex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371600" y="5334120"/>
                <a:ext cx="434340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-25560" y="1905120"/>
            <a:ext cx="1092240" cy="4190760"/>
          </a:xfrm>
          <a:custGeom>
            <a:avLst/>
            <a:gdLst/>
            <a:ahLst/>
            <a:rect l="l" t="t" r="r" b="b"/>
            <a:pathLst>
              <a:path w="688" h="2640">
                <a:moveTo>
                  <a:pt x="304" y="0"/>
                </a:moveTo>
                <a:cubicBezTo>
                  <a:pt x="152" y="548"/>
                  <a:pt x="0" y="1096"/>
                  <a:pt x="64" y="1536"/>
                </a:cubicBezTo>
                <a:cubicBezTo>
                  <a:pt x="128" y="1976"/>
                  <a:pt x="584" y="2456"/>
                  <a:pt x="688" y="264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3040" y="3733920"/>
            <a:ext cx="939960" cy="2895480"/>
          </a:xfrm>
          <a:custGeom>
            <a:avLst/>
            <a:gdLst/>
            <a:ahLst/>
            <a:rect l="l" t="t" r="r" b="b"/>
            <a:pathLst>
              <a:path w="592" h="1824">
                <a:moveTo>
                  <a:pt x="352" y="0"/>
                </a:moveTo>
                <a:cubicBezTo>
                  <a:pt x="304" y="128"/>
                  <a:pt x="256" y="256"/>
                  <a:pt x="208" y="432"/>
                </a:cubicBezTo>
                <a:cubicBezTo>
                  <a:pt x="160" y="608"/>
                  <a:pt x="0" y="824"/>
                  <a:pt x="64" y="1056"/>
                </a:cubicBezTo>
                <a:cubicBezTo>
                  <a:pt x="128" y="1288"/>
                  <a:pt x="504" y="1696"/>
                  <a:pt x="592" y="182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5181480"/>
            <a:ext cx="343080" cy="45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20" y="0"/>
                </a:moveTo>
                <a:cubicBezTo>
                  <a:pt x="104" y="8"/>
                  <a:pt x="88" y="16"/>
                  <a:pt x="72" y="48"/>
                </a:cubicBezTo>
                <a:cubicBezTo>
                  <a:pt x="56" y="80"/>
                  <a:pt x="0" y="152"/>
                  <a:pt x="24" y="192"/>
                </a:cubicBezTo>
                <a:cubicBezTo>
                  <a:pt x="48" y="232"/>
                  <a:pt x="132" y="260"/>
                  <a:pt x="216" y="28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1.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Fie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o fbf închisă şi I o interpretare. Atunci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ste adevărată sau fals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formulele închise şi o anumită interpretare, este suficientă testarea unei singure evaluă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eci, pentru formulele închise, 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interpretar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cea care alocă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adevăra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au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fal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ormul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emp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siderăm interpretar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, 0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, succ, +, 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762120" y="2862360"/>
                <a:ext cx="7391160" cy="24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Exempl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e interpretări în aritmetica forma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rice interpretare cu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2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6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3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4 satisface fb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rice interpretare cu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1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5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4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2 nu satisface fb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rice interpretare satisface fb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ici o interpretare nu satisface fb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(slide 25 din Cursul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2225520"/>
                <a:ext cx="434340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ă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dacă este adevărată în orice interpret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ot.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╞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contradicţi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dacă este falsă în orice interpret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oţiunile sunt analoge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tautologie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contradicţie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in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istă fbf care nu sunt nici valide şi nici contradictor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ru a realiza deducţii defini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stemul formal K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 baza unui limbaj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ordinul I, la care adăugăm 6 axiome şi 2 reguli de deducţ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ro-RO" sz="44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Axi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1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2) (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3)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4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(      )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 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nu e liber î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5) ((      )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dacă t termen liber de 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î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6) (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dacă 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nu e liber î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47920" y="3200400"/>
                <a:ext cx="450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447920" y="3733920"/>
                <a:ext cx="4507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95280" y="4249800"/>
                <a:ext cx="451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62520" y="4267080"/>
                <a:ext cx="457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ro-RO" sz="4400" spc="-1" strike="noStrike" baseline="-25000">
                <a:solidFill>
                  <a:srgbClr val="000000"/>
                </a:solidFill>
                <a:latin typeface="Monotype Corsiva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Reguli de deduc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. regula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Modus Ponen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M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este o consecinţă directă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gula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Generalizar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o consecinţă directă din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Obs. Toate deducţiile în L sunt valabile în 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K</a:t>
            </a:r>
            <a:r>
              <a:rPr b="0" i="1" lang="ro-RO" sz="2800" spc="-1" strike="noStrike" baseline="-25000">
                <a:solidFill>
                  <a:srgbClr val="dddddd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95280" y="4194000"/>
                <a:ext cx="5335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ro-RO" sz="4400" spc="-1" strike="noStrike" baseline="-25000">
                <a:solidFill>
                  <a:srgbClr val="000000"/>
                </a:solidFill>
                <a:latin typeface="Monotype Corsiva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Reguli de deduc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. regula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Modus Ponen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M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este o consecinţă directă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gula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Generalizar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o consecinţă directă din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Obs. Toate deducţiile în L sunt valabile în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i="1" lang="ro-RO" sz="2800" spc="-1" strike="noStrike" baseline="-25000">
                <a:solidFill>
                  <a:srgbClr val="000099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95280" y="4194000"/>
                <a:ext cx="5335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e de infe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ute prin generaliz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(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o consec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(x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(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(x)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o consec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(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fol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operatorul universal, infe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 mai n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lizare universa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2209680"/>
                <a:ext cx="350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90720" y="3200400"/>
                <a:ext cx="352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, limbajul</a:t>
            </a:r>
            <a:r>
              <a:rPr b="0" lang="ro-RO" sz="3600" spc="-1" strike="noStrike">
                <a:solidFill>
                  <a:srgbClr val="ff0000"/>
                </a:solidFill>
                <a:latin typeface="Arial"/>
              </a:rPr>
              <a:t> formal al calculului predicat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ţine următoarele seturi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simbolur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 ( 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57400" y="35053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19320" y="3890880"/>
                <a:ext cx="403848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7" name=""/>
          <p:cNvGraphicFramePr/>
          <p:nvPr/>
        </p:nvGraphicFramePr>
        <p:xfrm>
          <a:off x="5334120" y="3505320"/>
          <a:ext cx="2819160" cy="23922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24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onstrucţi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i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a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ţi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ro-RO" sz="40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lizarea exist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al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(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o consec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(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(x)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o consec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(a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5800" y="2209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85800" y="266688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  <a:ea typeface="Arial"/>
              </a:rPr>
              <a:t>demonstraţi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în 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L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este o secvenţă de fbf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astfel încâ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este o axiomă s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e obţine din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Monotype Corsiva"/>
              </a:rPr>
              <a:t>k 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in MP 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sau G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(j,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punem că secvenţa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este o demonstraţie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a lui </a:t>
            </a:r>
            <a:r>
              <a:rPr b="1" lang="ro-RO" sz="32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ff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şi că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este o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eorem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 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L.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ompar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8 Curs 5&amp;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o mulţime de fbf. O secvenţă de fbf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este o axiomă s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i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e obţine di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Monotype Corsiva"/>
              </a:rPr>
              <a:t>k 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in MP (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sau din </a:t>
            </a:r>
            <a:r>
              <a:rPr b="1" lang="ro-RO" sz="2800" spc="-1" strike="noStrike">
                <a:solidFill>
                  <a:srgbClr val="000099"/>
                </a:solidFill>
                <a:latin typeface="Monotype Corsiva"/>
              </a:rPr>
              <a:t>A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Monotype Corsiva"/>
              </a:rPr>
              <a:t>j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 prin G (j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&lt;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unem că secvenţa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tibi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au că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este consecinţ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lui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în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ompar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l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0 Curs 5&amp;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76520" y="3048120"/>
                <a:ext cx="25380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emple de dedu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                         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33920" y="2590920"/>
                <a:ext cx="25146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990720" y="2590920"/>
                <a:ext cx="441936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→</m:t>
                            </m:r>
                            <m:r>
                              <m:t xml:space="preserve">(</m:t>
                            </m:r>
                            <m:r>
                              <m:t xml:space="preserve">∀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de 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be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90720" y="4064040"/>
                <a:ext cx="4572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791320" y="4114800"/>
                <a:ext cx="1828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emple de deduc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 aplică K4 sau K5, după cum x este legat sau liber în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ate deducţiile în L sunt valabile şi î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1600200"/>
                <a:ext cx="391788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→</m:t>
                            </m:r>
                            <m:r>
                              <m:t xml:space="preserve">(</m:t>
                            </m:r>
                            <m:r>
                              <m:t xml:space="preserve">∀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de 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be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657600" y="1600200"/>
                <a:ext cx="23115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71560" y="2781360"/>
                <a:ext cx="5418000" cy="24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au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logism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xemple de deduc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041480" y="1558800"/>
                <a:ext cx="42163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715000" y="1574640"/>
                <a:ext cx="1676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66960" y="2482920"/>
                <a:ext cx="5219640" cy="417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auK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1,3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4,5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auK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2,7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6,8</m:t>
                        </m:r>
                        <m:r>
                          <m:rPr>
                            <m:lit/>
                            <m:nor/>
                          </m:rPr>
                          <m:t xml:space="preserve">MP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(fbf echivale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209680" y="1447920"/>
                <a:ext cx="3856320" cy="541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ca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unci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ca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unci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U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(fbf 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chivale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xplicaţ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interpretare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, 0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, succ, +, *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: x este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: x este im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17720" y="1378080"/>
                <a:ext cx="54738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41400" y="4986360"/>
                <a:ext cx="45594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eorema de corectitu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sistemul formal K</a:t>
            </a:r>
            <a:r>
              <a:rPr b="0" i="1" lang="ro-RO" sz="32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orice teoremă este valid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eorema de adecv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sistemul formal K</a:t>
            </a:r>
            <a:r>
              <a:rPr b="0" i="1" lang="ro-RO" sz="32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orice fbf validă este teorem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eorema de decidabilitate NU EXIST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sistemul formal K</a:t>
            </a:r>
            <a:r>
              <a:rPr b="0" i="1" lang="ro-RO" sz="32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există fbf valide pentru care nu există demonstraţ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a deciziei</a:t>
            </a:r>
            <a:br>
              <a:rPr sz="40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1928, David Hilbert, 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lhelm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ckerman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xistă un algoritm general, care să primească la intrare o fbf şi să decidă dacă aceasta este validă sau n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Ech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xistă un algoritm general, care să primească la intrare o fbf şi să decidă dacă aceasta este teoremă sau n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Răspu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U (găsit independent de Alonso Church, Alan Turing în 19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fbf, t un termen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o variabilă în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rmenul t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este legat 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ro-RO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 în 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t conţine o variabil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 liber în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în domeniul unui cuantificator al lu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u) este legat de y în formu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(x,</a:t>
            </a: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este legat de x în formu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371600" y="4495680"/>
                <a:ext cx="40384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demonstrării teoremelor în logica de ordinul întâi este semidecidabil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oate af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timp finit dacă un enunţ se poate demons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necesar timp infinit pentru a afla dacă un enunţ nu se poate demons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a deciziei</a:t>
            </a:r>
            <a:br>
              <a:rPr sz="3200"/>
            </a:b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(1928, David Hilbert, 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lhelm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ckermann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a deciziei</a:t>
            </a:r>
            <a:br>
              <a:rPr sz="3200"/>
            </a:b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(1928, David Hilbert, 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lhelm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ckermann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oate construi un algoritm cu u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area comportare: d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goritmul pr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la intrare o form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e e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tologie, atunci algoritmul va da, într-un 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finit de 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,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unsul Da; în schimb, în cazul în care formula de intrare nu este tautologie, este posibil ca algoritmul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u se oprea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828800" y="1371600"/>
                <a:ext cx="487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7772400" cy="3690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925040" cy="34671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6324480" cy="124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7391520" cy="2301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920960"/>
            <a:ext cx="838188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p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→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ocu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e ap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d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liz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886200" y="2774880"/>
                <a:ext cx="12175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fbf, t un termen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o variabilă în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rmenul t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este liber 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ro-RO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 în </a:t>
            </a:r>
            <a:r>
              <a:rPr b="0" lang="en-US" sz="36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t nu este legat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în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orice fbf 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liber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z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este liber de y în formu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este liber de x în formu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Trebuie testate toate variabilele din ter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143000" y="4419720"/>
                <a:ext cx="40384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e ce se definesc 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termeni liberi de variabile în form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a substitui termenii variabilelor, fără a produce schimbări de înţ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66680" y="3809880"/>
                <a:ext cx="632484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 formula A =   yP(x, y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ermenul t=f(z).  Termenul t este liber de y în formula A deoarece singura variabi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e apare în t este z, care nu apare in domeniul unui cuantificator al lui y in form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 schimb y este legat de x în formula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fel, y considerat ca termen c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 variabila 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x in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ber în    y P(x, y) . La fel, f(y) sau y sunt termeni liberi pentru y în A, deoarece y este leg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ipând modul de folosire a acestei 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uni în teoria dedu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i, ideea este aceea de a preciza situ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în care termenul t poate substitui variabila x într-o form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828800" y="3759120"/>
                <a:ext cx="297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641680" y="1295280"/>
                <a:ext cx="2538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fel, t = f(z) este liber pentru x în formula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ubstituind pe x cu t nu denat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În schimb, t = y nu este liber pentru x în A, ceea ce ne ar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bstituind pe x cu t = y denat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pe A; astfel, A  devine:          y P(y, 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ea ce este o for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înch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pre deosebire de formula i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ntru care x era variab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092560" y="342900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u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1371600"/>
                <a:ext cx="6511680" cy="287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hat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hat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ar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te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an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ar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↦</m:t>
                        </m:r>
                        <m:r>
                          <m:rPr>
                            <m:lit/>
                            <m:nor/>
                          </m:rPr>
                          <m:t xml:space="preserve">moth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hate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othe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ate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an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othe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ane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1066680" y="525780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stituţia schimbă sensul formu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legat d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a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 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enu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ther(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  variabil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 li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termenul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re li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domeniul unui cuantificator al lu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 ac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d vom face substit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 lui y cu mother (x) se schi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nif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 expresi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181480" y="16765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648320" y="320040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9:06:24Z</dcterms:created>
  <dc:creator>Adela</dc:creator>
  <dc:description/>
  <dc:language>en-US</dc:language>
  <cp:lastModifiedBy>cerasela</cp:lastModifiedBy>
  <dcterms:modified xsi:type="dcterms:W3CDTF">2015-10-03T05:14:25Z</dcterms:modified>
  <cp:revision>263</cp:revision>
  <dc:subject/>
  <dc:title>LOGICA PROPOZIŢIONALĂ  Propoziţii şi conectori. Funcţii de  adevăr. Tabele de adevăr.  Forme propoziţionale.</dc:title>
</cp:coreProperties>
</file>